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8595-BEA4-41EA-8B92-56CDDD0A1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B48A-CD40-42F0-886E-D4C428568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61B4-AC31-4EB5-BAF3-D8CB38820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A8F2-BE4E-4569-8EB6-BDF50E20A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C3A2C-CF8F-480D-8548-EBE7634CF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1D78E-B3E2-4D81-94FD-1962F03ED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B3817-BD90-4C78-AA01-488E15590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FA79B-36A6-4C41-804E-0545D0D2E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373DB-F558-4C87-BEBA-31B4A414D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11E1E-2007-4D28-BC0B-966B98A88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D7D84-0281-4AE2-8D5D-AC6CB9092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1C3B-30F5-43B5-8B25-C7B84CB0D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37258-E72C-4FBE-A97A-469F45170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FC0FD-221E-43BB-BA24-E60F372DA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B423B-91D5-4513-8EFA-37798C198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6FC48-731E-43A6-AD21-626654F4C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5AEED-36DF-4EBA-9697-D16D4B97C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574A-F9A0-43F6-BFDE-E12CC749D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E4A6-17B8-4DF3-A2FB-761443015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969E-5BF3-4B7F-9BB5-8B395111B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C48E-7F7A-4F04-B813-B4A152DAA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85CA-63D4-4DCF-A8B0-9F02D24C3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2612-445D-4327-BB9F-37DA3BF36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8541-7D2F-4DB2-9069-42B439247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EEA2F-B56C-43F8-874F-5756ED40B36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8F309-6484-4C42-8C68-239C2075523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Judges 2:6-3:6</a:t>
            </a:r>
            <a:br>
              <a:rPr sz="5400"/>
            </a:b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Overview of the Period of the Judges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-360" y="3733920"/>
            <a:ext cx="5334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arter 3; Lesson 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ges 55-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the Days of the Judges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e Judges (15)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276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thni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hu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amg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bora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ide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imele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ai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5181480" y="1447920"/>
            <a:ext cx="32767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phtha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bz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d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ms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mu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0880" y="5853240"/>
            <a:ext cx="8458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aldron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fifteen word outline” from Judges 1 through 1 Samuel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Remember Recurring Cycle -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16072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ostas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 rot="2655600">
            <a:off x="990360" y="2895480"/>
            <a:ext cx="1066680" cy="533520"/>
          </a:xfrm>
          <a:custGeom>
            <a:avLst/>
            <a:gdLst/>
            <a:ahLst/>
            <a:rect l="l" t="t" r="r" b="b"/>
            <a:pathLst>
              <a:path w="1632" h="795">
                <a:moveTo>
                  <a:pt x="0" y="0"/>
                </a:moveTo>
                <a:lnTo>
                  <a:pt x="242" y="238"/>
                </a:lnTo>
                <a:lnTo>
                  <a:pt x="773" y="795"/>
                </a:lnTo>
                <a:lnTo>
                  <a:pt x="1632" y="1"/>
                </a:lnTo>
              </a:path>
            </a:pathLst>
          </a:custGeom>
          <a:noFill/>
          <a:ln w="38160">
            <a:solidFill>
              <a:srgbClr val="ffffff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09680" y="3048120"/>
            <a:ext cx="3962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ffliction/Oppr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429000" y="4038480"/>
            <a:ext cx="2362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pent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724280" y="5029200"/>
            <a:ext cx="2438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liver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19920" y="6095880"/>
            <a:ext cx="16761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rot="2655600">
            <a:off x="2209320" y="3962520"/>
            <a:ext cx="1067040" cy="533160"/>
          </a:xfrm>
          <a:custGeom>
            <a:avLst/>
            <a:gdLst/>
            <a:ahLst/>
            <a:rect l="l" t="t" r="r" b="b"/>
            <a:pathLst>
              <a:path w="1632" h="795">
                <a:moveTo>
                  <a:pt x="0" y="0"/>
                </a:moveTo>
                <a:lnTo>
                  <a:pt x="242" y="238"/>
                </a:lnTo>
                <a:lnTo>
                  <a:pt x="773" y="795"/>
                </a:lnTo>
                <a:lnTo>
                  <a:pt x="1632" y="1"/>
                </a:lnTo>
              </a:path>
            </a:pathLst>
          </a:custGeom>
          <a:noFill/>
          <a:ln w="38160">
            <a:solidFill>
              <a:srgbClr val="ffffff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rot="2655600">
            <a:off x="3504960" y="4952880"/>
            <a:ext cx="1066680" cy="533520"/>
          </a:xfrm>
          <a:custGeom>
            <a:avLst/>
            <a:gdLst/>
            <a:ahLst/>
            <a:rect l="l" t="t" r="r" b="b"/>
            <a:pathLst>
              <a:path w="1632" h="795">
                <a:moveTo>
                  <a:pt x="0" y="0"/>
                </a:moveTo>
                <a:lnTo>
                  <a:pt x="242" y="238"/>
                </a:lnTo>
                <a:lnTo>
                  <a:pt x="773" y="795"/>
                </a:lnTo>
                <a:lnTo>
                  <a:pt x="1632" y="1"/>
                </a:lnTo>
              </a:path>
            </a:pathLst>
          </a:custGeom>
          <a:noFill/>
          <a:ln w="38160">
            <a:solidFill>
              <a:srgbClr val="ffffff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rot="2655600">
            <a:off x="4800240" y="5943600"/>
            <a:ext cx="1066680" cy="533520"/>
          </a:xfrm>
          <a:custGeom>
            <a:avLst/>
            <a:gdLst/>
            <a:ahLst/>
            <a:rect l="l" t="t" r="r" b="b"/>
            <a:pathLst>
              <a:path w="1632" h="795">
                <a:moveTo>
                  <a:pt x="0" y="0"/>
                </a:moveTo>
                <a:lnTo>
                  <a:pt x="242" y="238"/>
                </a:lnTo>
                <a:lnTo>
                  <a:pt x="773" y="795"/>
                </a:lnTo>
                <a:lnTo>
                  <a:pt x="1632" y="1"/>
                </a:lnTo>
              </a:path>
            </a:pathLst>
          </a:custGeom>
          <a:noFill/>
          <a:ln w="38160">
            <a:solidFill>
              <a:srgbClr val="ffffff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2286000"/>
            <a:ext cx="6019920" cy="4114800"/>
          </a:xfrm>
          <a:custGeom>
            <a:avLst/>
            <a:gdLst/>
            <a:ahLst/>
            <a:rect l="l" t="t" r="r" b="b"/>
            <a:pathLst>
              <a:path w="3282" h="2395">
                <a:moveTo>
                  <a:pt x="2647" y="2395"/>
                </a:moveTo>
                <a:lnTo>
                  <a:pt x="3282" y="2395"/>
                </a:lnTo>
                <a:lnTo>
                  <a:pt x="3273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ffff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219320"/>
          </a:xfrm>
          <a:prstGeom prst="rect">
            <a:avLst/>
          </a:prstGeom>
          <a:noFill/>
          <a:ln w="38160">
            <a:solidFill>
              <a:srgbClr val="dbbd71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Preview of next lesson -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62120" y="1600200"/>
            <a:ext cx="777240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2826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The first judge, Othniel, vs. the king of Mesopotam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2826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Ehud vs. the Moabites, Ammonites, and Amaleki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2826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Shamgar vs. the Philisti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2826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Deborah vs. the Canaani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80880" y="1219320"/>
            <a:ext cx="4267440" cy="52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Creation Stor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Flo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Scattering of the Peo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Patriarch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The Exod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Wande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Conquest of Cana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Arial"/>
              </a:rPr>
              <a:t>Judg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dbbd71"/>
                </a:solidFill>
                <a:uFillTx/>
                <a:latin typeface="Arial"/>
              </a:rPr>
              <a:t>The Periods of Bible History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029200" y="1208160"/>
            <a:ext cx="377208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United Kingd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Divided Kingd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Judah Al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Captiv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Retur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Years of Sil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Life of Chri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Early Chur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Letters to Christia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80880" y="1219320"/>
            <a:ext cx="42674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Creation Stor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Flo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Scattering of the Peo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dbbd71"/>
                </a:solidFill>
                <a:uFillTx/>
                <a:latin typeface="Arial"/>
              </a:rPr>
              <a:t>The Periods of Bible History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5056200"/>
            <a:ext cx="3771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Life of Chri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Early Chur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Letters to Christia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0880" y="3124080"/>
            <a:ext cx="42674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Patriarch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The Exod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Wande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Conquest of Cana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571500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Arial"/>
              </a:rPr>
              <a:t>Judg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876920" y="1219320"/>
            <a:ext cx="3771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United Kingd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Divided Kingd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Judah Al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76920" y="3124080"/>
            <a:ext cx="3771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Captiv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Retur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Years of Sil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bbd71"/>
                                </p:to>
                              </p:animClr>
                              <p:animClr clrSpc="rgb">
                                <p:cBhvr>
                                  <p:cTn id="1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bbd71"/>
                                </p:to>
                              </p:animClr>
                              <p:animClr clrSpc="rgb"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bbd7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bbd71"/>
                                </p:to>
                              </p:animCl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bbd71"/>
                                </p:to>
                              </p:animClr>
                              <p:animClr clrSpc="rgb">
                                <p:cBhvr>
                                  <p:cTn id="1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bbd71"/>
                                </p:to>
                              </p:animClr>
                              <p:animClr clrSpc="rgb">
                                <p:cBhvr>
                                  <p:cTn id="1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bbd7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bbd71"/>
                                </p:to>
                              </p:animClr>
                              <p:animClr clrSpc="rgb">
                                <p:cBhvr>
                                  <p:cTn id="1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bbd71"/>
                                </p:to>
                              </p:animClr>
                              <p:animClr clrSpc="rgb">
                                <p:cBhvr>
                                  <p:cTn id="1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bbd71"/>
                                </p:to>
                              </p:animClr>
                              <p:animClr clrSpc="rgb">
                                <p:cBhvr>
                                  <p:cTn id="1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bbd7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bbd71"/>
                                </p:to>
                              </p:animClr>
                              <p:animClr clrSpc="rgb">
                                <p:cBhvr>
                                  <p:cTn id="1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bbd71"/>
                                </p:to>
                              </p:animClr>
                              <p:animClr clrSpc="rgb">
                                <p:cBhvr>
                                  <p:cTn id="1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bbd7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1" dur="1" fill="hold"/>
                                  <p:tgtEl>
                                    <p:spTgt spid="15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bbd71"/>
                                </p:to>
                              </p:animClr>
                              <p:animClr clrSpc="rgb">
                                <p:cBhvr>
                                  <p:cTn id="202" dur="1" fill="hold"/>
                                  <p:tgtEl>
                                    <p:spTgt spid="15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bbd71"/>
                                </p:to>
                              </p:animClr>
                              <p:animClr clrSpc="rgb">
                                <p:cBhvr>
                                  <p:cTn id="203" dur="1" fill="hold"/>
                                  <p:tgtEl>
                                    <p:spTgt spid="15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bbd7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219320"/>
          </a:xfrm>
          <a:prstGeom prst="rect">
            <a:avLst/>
          </a:prstGeom>
          <a:noFill/>
          <a:ln w="38160">
            <a:solidFill>
              <a:srgbClr val="dbbd71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Overview of the Period Judges</a:t>
            </a:r>
            <a:br>
              <a:rPr sz="4000"/>
            </a:br>
            <a:r>
              <a:rPr b="0" lang="en-US" sz="2700" spc="-1" strike="noStrike">
                <a:solidFill>
                  <a:srgbClr val="dbbd71"/>
                </a:solidFill>
                <a:latin typeface="Arial"/>
              </a:rPr>
              <a:t>Judges 2:6 – 3:6</a:t>
            </a:r>
            <a:endParaRPr b="0" lang="en-US" sz="27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9480" y="17524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644480"/>
            <a:ext cx="8077320" cy="52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1000" indent="-3510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us of Israel (2:6-10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51000" indent="-3510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rael possessed the lan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51000" indent="-3510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oshua died at 11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51000" indent="-3510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nd had peace for a wh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51000" indent="-3510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ople faithful until the elders (older leaders) di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51000" indent="-3510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other generation arose that knew not G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219320"/>
          </a:xfrm>
          <a:prstGeom prst="rect">
            <a:avLst/>
          </a:prstGeom>
          <a:noFill/>
          <a:ln w="38160">
            <a:solidFill>
              <a:srgbClr val="dbbd71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Overview of the Period Judges</a:t>
            </a:r>
            <a:br>
              <a:rPr sz="4000"/>
            </a:br>
            <a:r>
              <a:rPr b="0" lang="en-US" sz="2700" spc="-1" strike="noStrike">
                <a:solidFill>
                  <a:srgbClr val="dbbd71"/>
                </a:solidFill>
                <a:latin typeface="Arial"/>
              </a:rPr>
              <a:t>Judges 2:6 – 3:6</a:t>
            </a:r>
            <a:endParaRPr b="0" lang="en-US" sz="27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17524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14400" y="1828800"/>
            <a:ext cx="80010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1000" indent="-3510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Apostasy (2:11-15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51000" indent="-3510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rael “did evil in the sight of the Lord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51000" indent="-3510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rved Baal and Ashtaro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51000" indent="-3510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voked the Lord to ang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51000" indent="-3510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d delivered them to spoil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51000" indent="-3510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d sold them to their enem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51000" indent="-3510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were greatly distres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219320"/>
          </a:xfrm>
          <a:prstGeom prst="rect">
            <a:avLst/>
          </a:prstGeom>
          <a:noFill/>
          <a:ln w="38160">
            <a:solidFill>
              <a:srgbClr val="dbbd71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Overview of the Period Judges</a:t>
            </a:r>
            <a:br>
              <a:rPr sz="4000"/>
            </a:br>
            <a:r>
              <a:rPr b="0" lang="en-US" sz="2700" spc="-1" strike="noStrike">
                <a:solidFill>
                  <a:srgbClr val="dbbd71"/>
                </a:solidFill>
                <a:latin typeface="Arial"/>
              </a:rPr>
              <a:t>Judges 2:6 – 3:6</a:t>
            </a:r>
            <a:endParaRPr b="0" lang="en-US" sz="27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14400" y="1600200"/>
            <a:ext cx="7620120" cy="49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God raised up judges (2:16-23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The term “judge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53920" indent="-33624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Temporary and special deliverers sent by Go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53920" indent="-33624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ly had power over portions of Isra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53920" indent="-33624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Not supreme leaders (judges) like Moses and Joshua; not like the judges Moses set up in Ex. 18:13-2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Later, they did administer justice (Judges 4:5; 1 Sam. 7:16) and had a form of limited government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219320"/>
          </a:xfrm>
          <a:prstGeom prst="rect">
            <a:avLst/>
          </a:prstGeom>
          <a:noFill/>
          <a:ln w="38160">
            <a:solidFill>
              <a:srgbClr val="dbbd71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Overview of the Period Judges</a:t>
            </a:r>
            <a:br>
              <a:rPr sz="4000"/>
            </a:br>
            <a:r>
              <a:rPr b="0" lang="en-US" sz="2700" spc="-1" strike="noStrike">
                <a:solidFill>
                  <a:srgbClr val="dbbd71"/>
                </a:solidFill>
                <a:latin typeface="Arial"/>
              </a:rPr>
              <a:t>Judges 2:6 – 3:6</a:t>
            </a:r>
            <a:endParaRPr b="0" lang="en-US" sz="27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1600200"/>
            <a:ext cx="7620120" cy="44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God raised up judges (2:16-23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Their work 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53920" indent="-33624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To secure blessing for God’s peo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53920" indent="-33624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To deliver them out of the hand of those that spoiled (robbed) th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Success conditional 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53920" indent="-33624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Serving God, or serving idol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219320"/>
          </a:xfrm>
          <a:prstGeom prst="rect">
            <a:avLst/>
          </a:prstGeom>
          <a:noFill/>
          <a:ln w="38160">
            <a:solidFill>
              <a:srgbClr val="dbbd71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Overview of the Period Judges</a:t>
            </a:r>
            <a:br>
              <a:rPr sz="4000"/>
            </a:br>
            <a:r>
              <a:rPr b="0" lang="en-US" sz="2700" spc="-1" strike="noStrike">
                <a:solidFill>
                  <a:srgbClr val="dbbd71"/>
                </a:solidFill>
                <a:latin typeface="Arial"/>
              </a:rPr>
              <a:t>Judges 2:6 – 3:6</a:t>
            </a:r>
            <a:endParaRPr b="0" lang="en-US" sz="27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62120" y="1600200"/>
            <a:ext cx="7772400" cy="548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7680" indent="-5176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The Cycle of Israel (2:16-23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7680" indent="-517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17680" indent="-517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- The people worship the gods of other n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7680" indent="-517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 - God allows other nations to oppress Israe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7680" indent="-517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 - The people turn to God for help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7680" indent="-517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 - God raises up a leader to deliver them..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    ... and this leader becomes the Judge or Governor of Israel for several years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7680" indent="-517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 - in peace, until the people strayed from God again... again and again for 13 times..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219320"/>
          </a:xfrm>
          <a:prstGeom prst="rect">
            <a:avLst/>
          </a:prstGeom>
          <a:noFill/>
          <a:ln w="38160">
            <a:solidFill>
              <a:srgbClr val="dbbd71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Overview of the Period Judges</a:t>
            </a:r>
            <a:br>
              <a:rPr sz="4000"/>
            </a:br>
            <a:r>
              <a:rPr b="0" lang="en-US" sz="2700" spc="-1" strike="noStrike">
                <a:solidFill>
                  <a:srgbClr val="dbbd71"/>
                </a:solidFill>
                <a:latin typeface="Arial"/>
              </a:rPr>
              <a:t>Judges 2:6 – 3:6</a:t>
            </a:r>
            <a:endParaRPr b="0" lang="en-US" sz="27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62120" y="1600200"/>
            <a:ext cx="7772400" cy="45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7680" indent="-5176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Nations left to test Israel (3:1-3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2826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younger generation knew not w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2826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eded to be prepared for confli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7680" indent="-5176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r required to purge the land (3:4-6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2826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et, they dwelt among the n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2826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xed their worship with the heath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2826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ermarried with the heathe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1T15:49:04Z</dcterms:created>
  <dc:creator>Don Vines</dc:creator>
  <dc:description/>
  <dc:language>en-US</dc:language>
  <cp:lastModifiedBy>Frank D Vines</cp:lastModifiedBy>
  <dcterms:modified xsi:type="dcterms:W3CDTF">2005-02-02T23:10:41Z</dcterms:modified>
  <cp:revision>41</cp:revision>
  <dc:subject/>
  <dc:title>Joshua 20 - 24 Inheritance for the Levites</dc:title>
</cp:coreProperties>
</file>